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517-575B-40C8-8861-4D8E2BE9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8DF9-B386-4B7B-8E63-25D929CB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DBBD-C0EB-4A72-89B8-AE15AF51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703-2C9A-416F-8FC9-C7D10477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A3BB-4874-4E3B-BDA7-B04C0CB1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67F9-E929-40FF-A3C2-755108DF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53A5-BBDB-4978-9236-3FFF1035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266E-30E5-4478-9A9C-F976BFA2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BE30-9253-4216-A7DD-640AB7D4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11D9-CA22-449F-921D-67AAAA1F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BA08-D124-4E29-96E7-AC56F57B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AA74-9D2F-4BC9-9B3E-8CC278F2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936E-2471-4C67-97E3-219F4CC1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CBEE-3E73-459F-9FCC-F96FF746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8BC0-2D40-4691-8757-23E4F74B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9C09-F93C-4188-A166-32BA4F0F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136E-AC3B-4BCE-BF45-60E2D120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8738E-0BA0-496C-B0CA-CB88CF4D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C1234-8438-4723-9A49-81F2B522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03202-B6A3-4D13-9991-E6125B7B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EDAAD-11F9-485F-B9E7-00411CE9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EF5E2-A5F4-40B5-8142-A3CB8CC3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401-75C7-4B7C-8C86-FD5A884F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C998A-77F0-4F31-B69A-44D5D7D0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19BE5-FD5F-46A8-B866-CA02665B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4C78C-2019-4425-B5F0-C61E3862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0931C-CD4D-4B91-89EE-4DCEAAE7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543CD-235E-4075-8EF3-929B98BF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B3B76-7248-46CB-ADD0-99AB452B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32ECB-BC6D-4B1A-900F-DB0E2541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4A7FA-6D23-440A-A07E-1B3D04C7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C7FEE-3EAE-4BE1-8271-E0B866BB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20603-C9FB-4CB9-807D-E4C81277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588B-7AAF-4AA4-A5EB-88C8A794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479BB-A6E7-4750-8D51-FE9EADC7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9ACA5-C363-418B-9101-44E49248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263FA-7FDE-4BBF-93EE-3BBD2D38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97D20-2B62-4C7E-A6C9-A31E061D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9480D-4B64-4038-972C-FF129380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064DE-2B3A-4F56-A61D-D21F042C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5066C-F79B-4D07-AE1B-C7460D6B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CDA33-B6D8-4204-BC46-FBD60980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E00FC-A061-4859-82A5-0CFF9BE5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1CF3D-034B-4896-99C9-F675E449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7BBD-2805-4F65-ADF2-0F063E0E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2A52F-CFEA-4D4A-BC64-73576EA9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7B4B3-B6B6-431C-B425-6F2CC482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13A29-DA77-4ED7-A1EE-22051F51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DA345-F27C-403B-A5F4-43A0008E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34188-1402-4970-A64D-1E1DCEA8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D14BA-A3DC-419C-B106-DCFBFD97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EB031-9739-4D2D-811A-00C3E740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8DF7C-1128-4998-A9E8-A662F805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E1D12-26E6-4877-BE4D-12FE0EFB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DA62D-F62D-499B-B957-7FA39266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DF7-1F8A-47D6-BB3A-A4FC53BC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ACD3F-0E2D-46AF-B0F2-A5158959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84CBA-2428-4849-9A6E-BFFA19FA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A728F-A4ED-444E-8261-97CE4635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99B5B-B743-429B-892F-09C389FC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0126B-4FC6-419C-A2D1-ED928D15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EBCB0-6A7D-4F81-8BB0-94AE9252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E6326-8724-46F2-AC71-84D87FC8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6217D-BB7C-44EA-840A-36CD531D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3FF50-7F59-4F05-976F-F2CEC4BF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8DE17-E9F6-4D5B-8DD4-0A7A7A80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62C-EA9A-4E6D-B94F-73033833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DF3E1-1910-4B43-BFCB-ED09ACCF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4A596-6178-4E4A-B24F-4359722B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969FD-082B-411E-938D-F0AC8C11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4360C-C9F9-44C3-B1AC-D15C544B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1B74C-2128-4069-890E-6776A855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7E200-0E12-4CB1-85F4-D6E89C7E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999DE-E8E7-41C0-AFF0-741E4FD7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BB50B-59F8-4CAF-9202-E554E927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3AC13-6D72-438B-980C-5450481A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B78D7-9F54-420B-812B-3A765A8B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9258-0748-4BB0-93B8-A023F908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91D9A-8E76-490B-948E-698321AD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FCF73-C314-488F-B44B-E65AD77B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29629-7C44-4546-9A24-0298CC73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D075D-3C5B-4AC2-A17C-FD6C6688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BA8B8-74FD-46CC-99B7-2F1978DB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456-1F2F-4219-BD89-A94DB32E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ircular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Anillo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Anillo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ángu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0669D-22F4-43CA-BA78-0C555B77528E}" type="datetime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AC24B-CDF2-48A1-A1FC-822B6DCEADBA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ángu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ircular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Anillo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Anillo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ángu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ángu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e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Elipse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e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00E36-E16F-4DD0-AE8B-1D26DDCA56D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98DE4-BED4-43EE-9E0A-99F1B4D02E0E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ángulo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ángulo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e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Elipse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e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397CD-C573-4835-9A8A-43359C915920}" type="datetime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3D24D-EAF8-467E-83D6-C981B4BA146D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34AD3-1A43-4473-A63E-4D0C5429E901}" type="datetime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C2E14-F0FA-4B60-B841-2C33BA442278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ángulo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ángulo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5887C-BF3D-48CF-8C4C-F44043C7626A}" type="datetime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AD727-41E1-4D4D-9F47-5064FD8A07B3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A8383-3A07-4177-9226-1C6FB8214EF7}" type="datetime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1244E-797D-4AB6-A0B3-D6E317E0DC5D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ángulo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ángulo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oceso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ceso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063FF-C479-4E2A-AC83-5B5EA453C901}" type="datetime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4FBE0-0771-415A-B74F-5D6D04F8CA77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03280" y="752040"/>
            <a:ext cx="594036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c000"/>
                </a:solidFill>
                <a:latin typeface="Verdana"/>
              </a:rPr>
              <a:t>LITTERALIA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3057480"/>
            <a:ext cx="7407000" cy="2230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200000"/>
              </a:lnSpc>
              <a:spcBef>
                <a:spcPts val="601"/>
              </a:spcBef>
              <a:spcAft>
                <a:spcPts val="36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67d42"/>
                </a:solidFill>
                <a:latin typeface="Verdana"/>
              </a:rPr>
              <a:t>UN PROYECTO DIDÁCTICO DE LITERATURA GRECOLATIN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Imagen 5" descr="Y.jpg"/>
          <p:cNvPicPr/>
          <p:nvPr/>
        </p:nvPicPr>
        <p:blipFill>
          <a:blip r:embed="rId1"/>
          <a:stretch/>
        </p:blipFill>
        <p:spPr>
          <a:xfrm>
            <a:off x="1197000" y="360360"/>
            <a:ext cx="200664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131760"/>
            <a:ext cx="7499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967d42"/>
                </a:solidFill>
                <a:latin typeface="Verdana"/>
              </a:rPr>
              <a:t>INTRODUCCIÓN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269720" y="1171440"/>
            <a:ext cx="7980120" cy="28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67d42"/>
                </a:solidFill>
                <a:latin typeface="Verdana"/>
              </a:rPr>
              <a:t>Proyecto de comunicación dinámica con mis alumnos de Latín y Griego de 2º de Bachillerato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67d42"/>
                </a:solidFill>
                <a:latin typeface="Verdana"/>
              </a:rPr>
              <a:t>Intención de llegar hasta donde ha sido difícil llegar hasta ahor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Imagen 4" descr=""/>
          <p:cNvPicPr/>
          <p:nvPr/>
        </p:nvPicPr>
        <p:blipFill>
          <a:blip r:embed="rId1"/>
          <a:stretch/>
        </p:blipFill>
        <p:spPr>
          <a:xfrm>
            <a:off x="3632040" y="3881520"/>
            <a:ext cx="30196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967d42"/>
                </a:solidFill>
                <a:latin typeface="Verdana"/>
              </a:rPr>
              <a:t>OBJETIVOS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96480" y="1523880"/>
            <a:ext cx="409572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967d42"/>
                </a:solidFill>
                <a:latin typeface="Gill Sans MT"/>
              </a:rPr>
              <a:t>acercar a los alumnos los textos originales y/o traducidos para paliar su déficit de lectura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967d42"/>
                </a:solidFill>
                <a:latin typeface="Gill Sans MT"/>
              </a:rPr>
              <a:t>hacerles comprender con este acercamiento el genuino significado de los mismos,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967d42"/>
                </a:solidFill>
                <a:latin typeface="Gill Sans MT"/>
              </a:rPr>
              <a:t>mejorar la lectura comprensora de los textos con datos del  contexto histórico-literario a través de enlaces y herramientas de la Web 2.0, como vídeos, presentaciones, imágenes, etc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76880" y="1965240"/>
            <a:ext cx="365760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7" name="ShockwaveFlash2"/>
          <p:cNvGraphicFramePr/>
          <p:nvPr/>
        </p:nvGraphicFramePr>
        <p:xfrm>
          <a:off x="5295960" y="2006640"/>
          <a:ext cx="3575160" cy="36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ShockwaveFlash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2006640"/>
                    <a:ext cx="3575160" cy="3603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967d42"/>
                </a:solidFill>
                <a:latin typeface="Verdana"/>
              </a:rPr>
              <a:t>HERRAMIENT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1152360" y="1417680"/>
            <a:ext cx="4124520" cy="33084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5276880" y="2797200"/>
            <a:ext cx="386712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152280"/>
            <a:ext cx="7499520" cy="14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67d42"/>
                </a:solidFill>
                <a:latin typeface="Verdana"/>
              </a:rPr>
              <a:t>¿PARA QUÉ SIRVEN?</a:t>
            </a:r>
            <a:br>
              <a:rPr sz="3600"/>
            </a:br>
            <a:r>
              <a:rPr b="0" lang="es-ES" sz="3600" spc="-1" strike="noStrike">
                <a:solidFill>
                  <a:srgbClr val="967d42"/>
                </a:solidFill>
                <a:latin typeface="Verdana"/>
              </a:rPr>
              <a:t>¿POR QUÉ LAS UTILIZO?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295280" y="1552680"/>
            <a:ext cx="763920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967d42"/>
                </a:solidFill>
                <a:latin typeface="Verdana"/>
              </a:rPr>
              <a:t>Son el modelo más adecuado para estructuras cooperativas, como el trabajo en grupo y la aportación de contenidos por parte del alumno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967d42"/>
                </a:solidFill>
                <a:latin typeface="Verdana"/>
              </a:rPr>
              <a:t>Se adaptan muy bien a la situación actual donde los profesores continuamos con procesos basados en docencia (contenidos aportados por nosotros) y procesos basados en la cooperación (trabajos en grupo, exposiciones, aportaciones de los alumnos, trabajos dirigidos, etc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967d42"/>
                </a:solidFill>
                <a:latin typeface="Verdana"/>
              </a:rPr>
              <a:t>Proporcionan gran ayuda para gestionar el conocimiento, sobre todo si se aplican  con las llamadas </a:t>
            </a:r>
            <a:r>
              <a:rPr b="1" lang="es-HN" sz="1800" spc="-1" strike="noStrike">
                <a:solidFill>
                  <a:srgbClr val="967d42"/>
                </a:solidFill>
                <a:latin typeface="Verdana"/>
              </a:rPr>
              <a:t>espirales del conocimiento</a:t>
            </a:r>
            <a:r>
              <a:rPr b="0" lang="es-HN" sz="1800" spc="-1" strike="noStrike">
                <a:solidFill>
                  <a:srgbClr val="967d42"/>
                </a:solidFill>
                <a:latin typeface="Verdana"/>
              </a:rPr>
              <a:t>, es decir, que si los alumnos se basan en un trabajo anterior, (todos los años explicamos el mismo temario) es evidente que el resultado del nuevo trabajo mejora al anterior; resumiendo, que si los trabajos que van realizando mis alumnos los organizo, se publican en algún sitio web –un wiki, por ejemplo- y se los entrego a los nuevos alumnos del curso siguiente, irán subiendo de nivel cada vez que se base en uno anterio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151920"/>
            <a:ext cx="749952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67d42"/>
                </a:solidFill>
                <a:latin typeface="Verdana"/>
              </a:rPr>
              <a:t>UNA IMAGEN VALE MÁS QUE MIL PALABRA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2505240" y="1417680"/>
            <a:ext cx="50860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20:30:43Z</dcterms:created>
  <dc:creator>CARMEN ROBRES</dc:creator>
  <dc:description/>
  <dc:language>en-US</dc:language>
  <cp:lastModifiedBy>CARMEN ROBRES</cp:lastModifiedBy>
  <dcterms:modified xsi:type="dcterms:W3CDTF">2010-12-12T21:23:37Z</dcterms:modified>
  <cp:revision>23</cp:revision>
  <dc:subject/>
  <dc:title>  LITTERALIA</dc:title>
</cp:coreProperties>
</file>